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EE5-EDAF-4A7A-A6EF-D7BBC276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CD1-B442-4B92-A75B-3F720E0A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739-4E6F-4586-BA7D-4BA7DE90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427-2E5E-476E-AE13-BE618D3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EA5-B6C9-4F32-AB98-6D2B302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D43-4C74-4D54-8B48-EA69AAA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C4C-DFB9-4EE4-AD92-D1D0892F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DBA-7DBF-4BC2-9925-7DBFFE71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833-A958-4879-87CF-F5F6512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F62-D5DA-4A51-B433-C179C97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7A5-963F-419A-9061-0712070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E38-1EF5-494F-A973-8010E08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1746-1DA3-4436-BDAB-452A09245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a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Y. Clar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 abse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clark@cshl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d 0.08 on August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0.09 to be released immin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optimizations to increase speed when rendering and creating name-based correspond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TML administratio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RS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G outp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(generic) table structure to allow for thing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feature tables (more than just names and positions) with curator-defin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bx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ility in choosing/zoom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y due Novemb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8:07:46Z</dcterms:created>
  <dc:creator>Ken Clark</dc:creator>
  <dc:description/>
  <dc:language>en-US</dc:language>
  <cp:lastModifiedBy>Ken Clark</cp:lastModifiedBy>
  <dcterms:modified xsi:type="dcterms:W3CDTF">2003-09-10T18:58:49Z</dcterms:modified>
  <cp:revision>1</cp:revision>
  <dc:subject/>
  <dc:title>CMap Update</dc:title>
</cp:coreProperties>
</file>